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image2.gif" ContentType="image/gif"/>
  <Override PartName="/ppt/media/bserie06.wav" ContentType="audio/x-wav"/>
  <Override PartName="/ppt/media/hzipup01.wav" ContentType="audio/x-wav"/>
  <Override PartName="/ppt/media/image3.gif" ContentType="image/gif"/>
  <Override PartName="/ppt/media/highchime.wav" ContentType="audio/x-wav"/>
  <Override PartName="/ppt/media/caralarmoff.wav" ContentType="audio/x-wav"/>
  <Override PartName="/ppt/media/lzipup01.wav" ContentType="audio/x-wav"/>
  <Override PartName="/ppt/media/image1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B2F-536E-4FC0-9009-132B3842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7B8-7208-4164-B902-795D7097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407-7705-40D7-B677-C92D90A3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B17-1272-4512-8EA1-D3D9843B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5B8-CE15-4A2D-97BB-BE47E57F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EBF-B41E-4342-BD4A-ECC4019C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49B-055D-43AB-AAC3-4E9C136E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25C-D891-4887-BB3E-AD1525C1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446-A700-4C4F-A11A-95910943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C32-9069-41C8-AF22-DA4F4339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206-41D9-4820-8D2C-F71C2928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9AB-0587-4341-84AC-8AAEE0C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0097-821B-4F8D-87B1-A5D60E3A0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caralarmoff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aralarmoff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zapbig0g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caralarmoff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caralarmoff.wav"/><Relationship Id="rId20" Type="http://schemas.openxmlformats.org/officeDocument/2006/relationships/audio" Target="../media/zapbig0g.wav"/><Relationship Id="rId21" Type="http://schemas.openxmlformats.org/officeDocument/2006/relationships/audio" Target="../media/caralarmoff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caralarmoff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audio" Target="../media/zapbig0g.wav"/><Relationship Id="rId15" Type="http://schemas.openxmlformats.org/officeDocument/2006/relationships/audio" Target="../media/caralarmoff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se a calculator. Show the keystrok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5200" y="1330200"/>
            <a:ext cx="29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15,45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3680" y="2766960"/>
            <a:ext cx="24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1967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30280" y="19191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3,6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4760" y="344664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,45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3960" y="342108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16480" y="344808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9,09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05160" y="345744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3,6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72280" y="3452760"/>
            <a:ext cx="669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se a calculator. Show the keystrok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5200" y="1330200"/>
            <a:ext cx="29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75,0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3680" y="2766960"/>
            <a:ext cx="24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17720" y="1967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30280" y="19191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,3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760" y="344664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5,0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23960" y="342108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16480" y="344808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9,65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05160" y="345744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,3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72280" y="3452760"/>
            <a:ext cx="669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se a calculator. Show the keystrok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5200" y="1330200"/>
            <a:ext cx="29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2,39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3680" y="2766960"/>
            <a:ext cx="240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7720" y="1967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30280" y="19191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4760" y="3446640"/>
            <a:ext cx="21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,39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23960" y="342108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7760" y="343368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77,30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5160" y="345744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7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83200" y="343836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Use a calculator. Show the keystrok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2160" y="1674720"/>
            <a:ext cx="46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          38,6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60880" y="1809720"/>
            <a:ext cx="174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17760" y="1695600"/>
            <a:ext cx="193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,035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268800" y="179352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640" y="34304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8,6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81160" y="340524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0280" y="341784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62360" y="344160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,0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35720" y="3422520"/>
            <a:ext cx="669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57400" y="3549600"/>
                <a:ext cx="717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238880" y="2948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2083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680" y="622440"/>
            <a:ext cx="89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Guess and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640" y="4921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78640" y="3403440"/>
            <a:ext cx="63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1880" y="327816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0200" y="33386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 + 8 + 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1157400"/>
            <a:ext cx="896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.  Ryan is 2 years older than Jasmine, and Jasmine is one year older than Karlee.  The sum of their ages is 34. How old are Ryan, Jasmine, and Karl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7320" y="5354640"/>
            <a:ext cx="63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6680" y="5043600"/>
            <a:ext cx="1000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0200" y="3525840"/>
            <a:ext cx="8744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3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8640" y="5477040"/>
            <a:ext cx="934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95960" y="405756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9560" y="4086360"/>
            <a:ext cx="37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5 + 13 +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6680" y="5105520"/>
            <a:ext cx="1000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34000" y="3435480"/>
            <a:ext cx="874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1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78640" y="5538960"/>
            <a:ext cx="9349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26200" y="4773600"/>
            <a:ext cx="15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3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39800" y="4802040"/>
            <a:ext cx="37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3 + 11 +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4160" y="5943600"/>
            <a:ext cx="639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R = 13, J = 11, K =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24520" y="2284560"/>
            <a:ext cx="3219480" cy="4359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64200" y="3747960"/>
            <a:ext cx="5176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680" y="622440"/>
            <a:ext cx="89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Guess and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65520" y="26398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2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3480" y="270036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 </a:t>
            </a:r>
            <a:r>
              <a:rPr b="0" lang="en-US" sz="5400" spc="-1" strike="noStrike">
                <a:solidFill>
                  <a:srgbClr val="800080"/>
                </a:solidFill>
                <a:latin typeface="Lucida Sans"/>
              </a:rPr>
              <a:t>x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3 +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520" y="1157400"/>
            <a:ext cx="89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.  If you take Derek’s jersey number and multiply it by 3 and add 14, you will get 53. What is Derek’s jersey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99400" y="3726000"/>
            <a:ext cx="676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81760" y="3703680"/>
            <a:ext cx="874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0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331632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4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880" y="3346560"/>
            <a:ext cx="341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 </a:t>
            </a:r>
            <a:r>
              <a:rPr b="0" lang="en-US" sz="5400" spc="-1" strike="noStrike">
                <a:solidFill>
                  <a:srgbClr val="800080"/>
                </a:solidFill>
                <a:latin typeface="Lucida Sans"/>
              </a:rPr>
              <a:t>x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3 +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81760" y="3733920"/>
            <a:ext cx="874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5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39862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5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7280" y="4016520"/>
            <a:ext cx="34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5 </a:t>
            </a:r>
            <a:r>
              <a:rPr b="0" lang="en-US" sz="5400" spc="-1" strike="noStrike">
                <a:solidFill>
                  <a:srgbClr val="800080"/>
                </a:solidFill>
                <a:latin typeface="Lucida Sans"/>
              </a:rPr>
              <a:t>x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3 +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65920" y="3732120"/>
            <a:ext cx="874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3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63800" y="46864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= 5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7520" y="4716360"/>
            <a:ext cx="34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3 </a:t>
            </a:r>
            <a:r>
              <a:rPr b="0" lang="en-US" sz="5400" spc="-1" strike="noStrike">
                <a:solidFill>
                  <a:srgbClr val="800080"/>
                </a:solidFill>
                <a:latin typeface="Lucida Sans"/>
              </a:rPr>
              <a:t>x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3 + 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4160" y="5943600"/>
            <a:ext cx="639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Derek’s number is 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1779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, 1 – 11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7, 1 – 12 #1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5/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3T16:56:17Z</dcterms:modified>
  <cp:revision>59</cp:revision>
  <dc:subject/>
  <dc:title>Slide 1</dc:title>
</cp:coreProperties>
</file>